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4FD-1DE5-4E35-B26E-70CD65FBF9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49F-2419-4BD6-9AAB-99961EE7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9F94-915F-497E-8128-FADB546F9F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a négation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suis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blond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’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i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4 ans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0" y="381780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rendre une phrase négative, on utilise la combinaison NE…PA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ù est-ce qu’on place ces mots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Autour du verbe qui est conjugué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Transformez: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5a28"/>
                </a:solidFill>
                <a:latin typeface="Times New Roman"/>
              </a:rPr>
              <a:t>Eric fait de la natation après l’écol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5a28"/>
                </a:solidFill>
                <a:latin typeface="Times New Roman"/>
              </a:rPr>
              <a:t>ex. 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Eric </a:t>
            </a:r>
            <a:r>
              <a:rPr b="1" i="1" lang="fr-FR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fr-FR" sz="2400" spc="-1" strike="noStrike">
                <a:solidFill>
                  <a:srgbClr val="525a28"/>
                </a:solidFill>
                <a:latin typeface="Times New Roman"/>
              </a:rPr>
              <a:t>pas 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de natation après l’écol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525a28"/>
                </a:solidFill>
                <a:latin typeface="Times New Roman"/>
              </a:rPr>
              <a:t>N’OUBLIEZ PAS!  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« du / de la / des » se transforment à “DE”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Mais, faites attention au placement avec des temps variés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25a28"/>
                </a:solidFill>
                <a:latin typeface="Times New Roman"/>
              </a:rPr>
              <a:t>le présent: 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Nous faisons du deltaplane à la Martiniqu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N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son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as d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deltaplane à Québec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25a28"/>
                </a:solidFill>
                <a:latin typeface="Times New Roman"/>
              </a:rPr>
              <a:t>le futur proche: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allez faire du ski en France? 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</a:t>
            </a:r>
            <a:r>
              <a:rPr b="1" i="1" lang="ja-JP" sz="24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allez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a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re du ski en France?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Pour exprimer une négation, on a d</a:t>
            </a:r>
            <a:r>
              <a:rPr b="0" lang="ja-JP" sz="32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autres phrases que </a:t>
            </a:r>
            <a:r>
              <a:rPr b="1" i="1" lang="en-US" sz="3200" spc="-1" strike="noStrike">
                <a:solidFill>
                  <a:srgbClr val="525a28"/>
                </a:solidFill>
                <a:latin typeface="Times New Roman"/>
              </a:rPr>
              <a:t>NE…PAS</a:t>
            </a: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JAMAIS – NEV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Il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jamai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un voyage au mois de septembr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PLUS – NO LONG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En juin, il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lu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roid au Québec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PERSONNE – NO ONE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voyez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erson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au parc aujourd</a:t>
            </a:r>
            <a:r>
              <a:rPr b="0" i="1" lang="ja-JP" sz="24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hui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RIEN – NOTHING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Elle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on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rien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le weekend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9T17:41:49Z</dcterms:modified>
  <cp:revision>101</cp:revision>
  <dc:subject/>
  <dc:title>Allez, viens! – Level 2</dc:title>
</cp:coreProperties>
</file>